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2306-B009-4037-97C8-155B59899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E251-EECE-4DFD-A270-18B6E546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D319-031F-4C29-889D-0B2787C99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5E9F-16AB-4028-A04B-94ADEF85D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33D6-0585-474F-B57C-4E833F58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0014-4267-4A31-86F2-87E20497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5648-BBC4-428B-8831-298AF655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6155-0E34-4AE8-A448-F4DA1EC9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164A-82F1-46A9-A724-6A9273D4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74BD-CE65-402D-A869-B3721085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74B9-8D96-42C8-AEFA-5FC87685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FB2A-BA93-43F1-80D9-809A4416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BF83-E1EE-4FFF-AEB3-B3822A7D88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srar.ru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0" y="0"/>
            <a:ext cx="504720" cy="6858000"/>
          </a:xfrm>
          <a:prstGeom prst="rect">
            <a:avLst/>
          </a:prstGeom>
          <a:solidFill>
            <a:srgbClr val="d2aa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503280" y="0"/>
            <a:ext cx="2116080" cy="6872400"/>
          </a:xfrm>
          <a:prstGeom prst="rect">
            <a:avLst/>
          </a:prstGeom>
          <a:ln w="0">
            <a:noFill/>
          </a:ln>
        </p:spPr>
      </p:pic>
      <p:sp>
        <p:nvSpPr>
          <p:cNvPr id="43" name="TextBox 7"/>
          <p:cNvSpPr/>
          <p:nvPr/>
        </p:nvSpPr>
        <p:spPr>
          <a:xfrm>
            <a:off x="2639880" y="1484280"/>
            <a:ext cx="6504120" cy="48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386"/>
                </a:solidFill>
                <a:latin typeface="Calibri"/>
                <a:ea typeface="Arial"/>
              </a:rPr>
              <a:t>О декларировании розничной продажи алкогольной продукции в Сахалинской 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4386"/>
                </a:solidFill>
                <a:latin typeface="Calibri"/>
                <a:ea typeface="Arial"/>
              </a:rPr>
              <a:t>май 2012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856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айт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екларирование в Росалкогольрегулирование”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https://dap.center-inform.r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5" descr="ЭЦП.jpg"/>
          <p:cNvPicPr/>
          <p:nvPr/>
        </p:nvPicPr>
        <p:blipFill>
          <a:blip r:embed="rId1"/>
          <a:stretch/>
        </p:blipFill>
        <p:spPr>
          <a:xfrm>
            <a:off x="179280" y="981000"/>
            <a:ext cx="8785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каз сертификата ЭЦ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24000" y="980640"/>
            <a:ext cx="8496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сайте Декларирование в Росалкогольрегулирование по адресу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tp://www.dap.center-inform.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добавлены две точки подключения в Сахалинской област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ОО "РСЦ Контур-Сахалин"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дрес: 693020, Сахалинская область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. Южно-Сахалинск, ул. Амурская, д. 62, офис 4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лефон: (4242) 31-22-00 (многоканальный)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-mail: rsc-sakhalin@mail.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О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«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АХИНФО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дрес: 693020,  Сахалинская область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. Южно-Сахалинск, ул. Чехова, 7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лефон: (4242) 43-43-11, е-mail: ds@sakhinfo.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роме того, самостоятельно ЭЦП выдает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ервисный центр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ке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дрес: Сахалинская область, ул. Ленина, 29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л. (4242) 490-700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@nalog65.ru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//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log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5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8567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фициальный сайт Министерства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ttp://apk-trade.admsakhalin.ru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7854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Содержимое 3"/>
          <p:cNvSpPr/>
          <p:nvPr/>
        </p:nvSpPr>
        <p:spPr>
          <a:xfrm>
            <a:off x="250920" y="476280"/>
            <a:ext cx="843588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нтактные телефоны управления лицензирования и правового обеспечени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8 (4242)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72-28-64, 72-64-36, 72-65-06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clarant@adm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akhalin.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В соответствии с Федеральным Законом от 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22 ноября 1995 г. № 171-ФЗ </a:t>
            </a: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“О государственном регулировании производства и оборота этилового спирта, алкогольной и спиртосодержащей продукции и об ограничении потребления (распития) алкогольной продукции”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(в редакции Федерального Закона от 18 июля 2010 г. № 210-ФЗ 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79280" y="249228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1280" indent="-341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анизации, осуществляющие производство и (или) оборот этилового спирта, алкогольной и спиртосодержащей пищевой продукции, а также спиртосодержащей непищевой продукции с содержанием этилового спирта более 25 процентов объема готовой продукции, обязаны осуществлять учет и декларирование объема их производства и (или) оборота, и индивидуальные предприниматели, осуществляющие розничную продажу пива и пивных напитков, обязаны осуществлять учет и декларирование объема их розничной продажи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1 января 2012 год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настоящее время Федеральной службой по регулированию алкогольного рынка (Росалкогольрегулирование) разработаны и проходят согласова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08000" y="1341360"/>
            <a:ext cx="892800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 постановления Правительства Российской Федераци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 представлении деклараций об объеме производства, оборота и (или) использования этилового спирта, алкогольной и спиртосодержащей продукции, об использовании мощностей основного технологического оборудования для производства этилового спирта или алкогольной продукции с использованием этилового спирта (производственных мощностей)”, предусматривающий форму декларации об объемах розничной продажи алкогольной (за исключением пива и пивных напитков) и спиртосодержащей продукции, а так же декларации об объемах  розничной продажи  пива и пивных напитков (проект постановления размещен на официальном сайте Федеральной службы по регулированию алкогольного рынка: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fsrar.ru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 приказа Росалкогольрегулирования “О внесении изменений в приказ Росалкогольрегулирования от 15 марта 2010 г. № 24 н “Об утверждении порядка заполнения деклараций об объемах производства, оборота и использования этилового спирта, алкогольной и спиртосодержащей продукции” (проектом предусматривается ежеквартальное представление деклараций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856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фициальный сайт Федеральной службы по регулированию алкогольного рынка Российской Федерации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http://www.fsrar.r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108000" y="981000"/>
            <a:ext cx="8928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дел предоставления услуг и сервисов ФСРАР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ля входа в Личный кабинет (необходима ЭЦП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216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граммный продукт Декларант-Алк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скан 3.1.5.jpg"/>
          <p:cNvPicPr/>
          <p:nvPr/>
        </p:nvPicPr>
        <p:blipFill>
          <a:blip r:embed="rId1"/>
          <a:stretch/>
        </p:blipFill>
        <p:spPr>
          <a:xfrm>
            <a:off x="250920" y="765000"/>
            <a:ext cx="87138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856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Меню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Контрагенты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, позволяет ввести данные о производителях и поставщиках алкогольной продукци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4" descr="скан контрагенты.jpg"/>
          <p:cNvPicPr/>
          <p:nvPr/>
        </p:nvPicPr>
        <p:blipFill>
          <a:blip r:embed="rId1"/>
          <a:stretch/>
        </p:blipFill>
        <p:spPr>
          <a:xfrm>
            <a:off x="179280" y="981000"/>
            <a:ext cx="8785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Таблица 1 (сводные данные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Таблица 1.jpg"/>
          <p:cNvPicPr/>
          <p:nvPr/>
        </p:nvPicPr>
        <p:blipFill>
          <a:blip r:embed="rId1"/>
          <a:stretch/>
        </p:blipFill>
        <p:spPr>
          <a:xfrm>
            <a:off x="179280" y="692280"/>
            <a:ext cx="878544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Таблица 2 (заполнение данных о приходе алкогольной продукции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4" descr="таблица 2.jpg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7:09:36Z</dcterms:created>
  <dc:creator>Вереникин Николай Владимирович</dc:creator>
  <dc:description/>
  <dc:language>en-US</dc:language>
  <cp:lastModifiedBy>Вереникин Николай Владимирович</cp:lastModifiedBy>
  <dcterms:modified xsi:type="dcterms:W3CDTF">2012-05-30T00:22:42Z</dcterms:modified>
  <cp:revision>52</cp:revision>
  <dc:subject/>
  <dc:title>Слайд 1</dc:title>
</cp:coreProperties>
</file>