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5.wmf" ContentType="image/x-wmf"/>
  <Override PartName="/ppt/media/image36.wmf" ContentType="image/x-wmf"/>
  <Override PartName="/ppt/media/image7.jpeg" ContentType="image/jpeg"/>
  <Override PartName="/ppt/media/image38.jpeg" ContentType="image/jpeg"/>
  <Override PartName="/ppt/media/image31.wmf" ContentType="image/x-wmf"/>
  <Override PartName="/ppt/media/image11.jpeg" ContentType="image/jpeg"/>
  <Override PartName="/ppt/media/image9.wmf" ContentType="image/x-wmf"/>
  <Override PartName="/ppt/media/image3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23550" cy="7380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9BF-8B59-41AA-9A5C-BC43A036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95583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60" y="4265640"/>
            <a:ext cx="95583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61F-4DDA-4E6C-A0A4-A78D345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91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360" y="426564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9160" y="426564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80D-B23E-477D-AF5F-A592711A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3440" y="172080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5160" y="172080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360" y="426564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3440" y="426564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5160" y="4265640"/>
            <a:ext cx="307764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31A-647E-44DB-8C78-AED728F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360" y="1720800"/>
            <a:ext cx="95583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6B9-4B9C-4EDB-94DB-008E81F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95583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6B3-0B80-4188-9A23-B3C7BDD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46641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9160" y="1720800"/>
            <a:ext cx="46641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959-7CC9-4542-A465-410D6AF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889-92A3-4217-B4C7-46A5B4C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360" y="294840"/>
            <a:ext cx="9558360" cy="56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17A-2493-4130-B4B8-ED3C687E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9160" y="1720800"/>
            <a:ext cx="46641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360" y="426564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D48-75EA-4B5D-A4E4-C4CD841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46641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91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9160" y="426564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5A0-D14F-4BD7-937F-3513D4F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3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9160" y="1720800"/>
            <a:ext cx="46641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360" y="4265640"/>
            <a:ext cx="9558360" cy="2323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A7E-5F05-4833-8D95-E2DD007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294840"/>
            <a:ext cx="9558360" cy="1228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360" y="1720800"/>
            <a:ext cx="9558360" cy="4872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5440" indent="-2458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360" y="6719400"/>
            <a:ext cx="2476440" cy="514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9160" y="6719400"/>
            <a:ext cx="3363840" cy="514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3280" y="6719400"/>
            <a:ext cx="2476440" cy="514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167-AEF0-4E13-AE1A-0BC539CA7AFD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8.jpeg"/><Relationship Id="rId7" Type="http://schemas.openxmlformats.org/officeDocument/2006/relationships/package" Target="../embeddings/oleObject1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10.wmf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package" Target="../embeddings/oleObject2.xlsx"/><Relationship Id="rId9" Type="http://schemas.openxmlformats.org/officeDocument/2006/relationships/image" Target="../media/image17.wmf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0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package" Target="../embeddings/oleObject2.xlsx"/><Relationship Id="rId9" Type="http://schemas.openxmlformats.org/officeDocument/2006/relationships/image" Target="../media/image31.wmf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36.wmf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65240" cy="7396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998720" y="0"/>
            <a:ext cx="84042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Муниципальное образование «Городской округ Ногликский»                               Отдел образования Управления социальной полити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2048040" y="1674720"/>
            <a:ext cx="83660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6 общеобразовательных учреждений (1575 обучающихся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МОУ Гимназия – победитель конкурсного отбора в рамках  приоритетного национального проекта «Образование» в 2006 г., 2009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6 дошкольных образовательных учреждений (630 воспитанник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Детский сад №9 «Березка» - победитель областного конкурса инновационных проектов в 2007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1 учреждение дополнительного образования (750 воспитанник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МОУ ДОД ЦДТ п. Ноглики – победитель областного конкурса для присуждения и вручения Премии Сахалинской области в 201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048040" y="824040"/>
            <a:ext cx="7277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Arial"/>
              </a:rPr>
              <a:t>Год создания отдела образования – 2 августа 1932 г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2048040" y="1287360"/>
            <a:ext cx="560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Функционируе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1303924738_840c2383b330"/>
          <p:cNvPicPr/>
          <p:nvPr/>
        </p:nvPicPr>
        <p:blipFill>
          <a:blip r:embed="rId4"/>
          <a:stretch/>
        </p:blipFill>
        <p:spPr>
          <a:xfrm>
            <a:off x="472608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1303924738_840c2383b330"/>
          <p:cNvPicPr/>
          <p:nvPr/>
        </p:nvPicPr>
        <p:blipFill>
          <a:blip r:embed="rId5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IMG_5713"/>
          <p:cNvPicPr/>
          <p:nvPr/>
        </p:nvPicPr>
        <p:blipFill>
          <a:blip r:embed="rId6"/>
          <a:stretch/>
        </p:blipFill>
        <p:spPr>
          <a:xfrm>
            <a:off x="1998720" y="5041800"/>
            <a:ext cx="3035160" cy="228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Все3"/>
          <p:cNvPicPr/>
          <p:nvPr/>
        </p:nvPicPr>
        <p:blipFill>
          <a:blip r:embed="rId7"/>
          <a:stretch/>
        </p:blipFill>
        <p:spPr>
          <a:xfrm>
            <a:off x="7615080" y="5025960"/>
            <a:ext cx="3006720" cy="229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1"/>
          <p:cNvPicPr/>
          <p:nvPr/>
        </p:nvPicPr>
        <p:blipFill>
          <a:blip r:embed="rId8"/>
          <a:stretch/>
        </p:blipFill>
        <p:spPr>
          <a:xfrm>
            <a:off x="4519440" y="5040360"/>
            <a:ext cx="3095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303924738_840c2383b330"/>
          <p:cNvPicPr/>
          <p:nvPr/>
        </p:nvPicPr>
        <p:blipFill>
          <a:blip r:embed="rId4"/>
          <a:stretch/>
        </p:blipFill>
        <p:spPr>
          <a:xfrm>
            <a:off x="472608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03924738_840c2383b330"/>
          <p:cNvPicPr/>
          <p:nvPr/>
        </p:nvPicPr>
        <p:blipFill>
          <a:blip r:embed="rId5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3638520" y="203040"/>
            <a:ext cx="5268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Достижения в учеб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900840" y="592200"/>
            <a:ext cx="44337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Награждены медалью</a:t>
            </a: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«За особые успехи в учении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(1988-2012 г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золотой – 32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серебряной – 51 чел.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935440" y="3041640"/>
            <a:ext cx="4014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Отличники учеб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(2011-2012 уч. год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ступень – 30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II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ступень – 17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III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ступень – 9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IMG_4418"/>
          <p:cNvPicPr/>
          <p:nvPr/>
        </p:nvPicPr>
        <p:blipFill>
          <a:blip r:embed="rId6"/>
          <a:stretch/>
        </p:blipFill>
        <p:spPr>
          <a:xfrm>
            <a:off x="4475160" y="5008680"/>
            <a:ext cx="350028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1"/>
          <p:cNvGraphicFramePr/>
          <p:nvPr/>
        </p:nvGraphicFramePr>
        <p:xfrm>
          <a:off x="2214720" y="1025640"/>
          <a:ext cx="4249440" cy="2185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4720" y="1025640"/>
                    <a:ext cx="42494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22"/>
          <p:cNvSpPr/>
          <p:nvPr/>
        </p:nvSpPr>
        <p:spPr>
          <a:xfrm>
            <a:off x="3294000" y="1817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7,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230720" y="10256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5383080" y="1241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078000" y="66528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овень обуч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6"/>
          <p:cNvGraphicFramePr/>
          <p:nvPr/>
        </p:nvGraphicFramePr>
        <p:xfrm>
          <a:off x="6224760" y="2681280"/>
          <a:ext cx="4397040" cy="22622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9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4760" y="2681280"/>
                    <a:ext cx="43970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27"/>
          <p:cNvSpPr/>
          <p:nvPr/>
        </p:nvSpPr>
        <p:spPr>
          <a:xfrm>
            <a:off x="7470720" y="35463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8407440" y="2825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9415440" y="2681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183440" y="24652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чество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1" descr="IMG_0148"/>
          <p:cNvPicPr/>
          <p:nvPr/>
        </p:nvPicPr>
        <p:blipFill>
          <a:blip r:embed="rId11"/>
          <a:stretch/>
        </p:blipFill>
        <p:spPr>
          <a:xfrm>
            <a:off x="7615080" y="4986360"/>
            <a:ext cx="3006720" cy="234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100_2283"/>
          <p:cNvPicPr/>
          <p:nvPr/>
        </p:nvPicPr>
        <p:blipFill>
          <a:blip r:embed="rId12"/>
          <a:stretch/>
        </p:blipFill>
        <p:spPr>
          <a:xfrm>
            <a:off x="2070000" y="5008680"/>
            <a:ext cx="26654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303924738_840c2383b330"/>
          <p:cNvPicPr/>
          <p:nvPr/>
        </p:nvPicPr>
        <p:blipFill>
          <a:blip r:embed="rId4"/>
          <a:stretch/>
        </p:blipFill>
        <p:spPr>
          <a:xfrm>
            <a:off x="455940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303924738_840c2383b330"/>
          <p:cNvPicPr/>
          <p:nvPr/>
        </p:nvPicPr>
        <p:blipFill>
          <a:blip r:embed="rId5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2801880" y="203040"/>
            <a:ext cx="7108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оддержка талантливой молодеж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143080" y="954000"/>
            <a:ext cx="8478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Вручение именной стипендии мэра муниципального образования «Городской округ Ногликский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Районный конкурс «Ученик год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Прием мэром выпускников, награжденных золотой и серебряной медалями «За особые успехи в учении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Бал отлични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Бал спортсмен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Районные конкурсы «Школьные годы», «Эрудит», «Веселая нотка», «Виктория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102_3743"/>
          <p:cNvPicPr/>
          <p:nvPr/>
        </p:nvPicPr>
        <p:blipFill>
          <a:blip r:embed="rId6"/>
          <a:stretch/>
        </p:blipFill>
        <p:spPr>
          <a:xfrm>
            <a:off x="1998720" y="4952880"/>
            <a:ext cx="3024000" cy="237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IMG_0141"/>
          <p:cNvPicPr/>
          <p:nvPr/>
        </p:nvPicPr>
        <p:blipFill>
          <a:blip r:embed="rId7"/>
          <a:stretch/>
        </p:blipFill>
        <p:spPr>
          <a:xfrm>
            <a:off x="4807080" y="4973760"/>
            <a:ext cx="2879640" cy="23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8" descr="9"/>
          <p:cNvPicPr/>
          <p:nvPr/>
        </p:nvPicPr>
        <p:blipFill>
          <a:blip r:embed="rId8"/>
          <a:stretch/>
        </p:blipFill>
        <p:spPr>
          <a:xfrm>
            <a:off x="7470720" y="497988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137040" y="358920"/>
            <a:ext cx="6440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Наши достиж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2575080" y="2681280"/>
          <a:ext cx="3824280" cy="19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5080" y="2681280"/>
                    <a:ext cx="382428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2048040" y="3071880"/>
            <a:ext cx="1755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5 чел. – победители, призе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1303924738_840c2383b330"/>
          <p:cNvPicPr/>
          <p:nvPr/>
        </p:nvPicPr>
        <p:blipFill>
          <a:blip r:embed="rId5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303924738_840c2383b330"/>
          <p:cNvPicPr/>
          <p:nvPr/>
        </p:nvPicPr>
        <p:blipFill>
          <a:blip r:embed="rId6"/>
          <a:stretch/>
        </p:blipFill>
        <p:spPr>
          <a:xfrm>
            <a:off x="472608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303924738_840c2383b330"/>
          <p:cNvPicPr/>
          <p:nvPr/>
        </p:nvPicPr>
        <p:blipFill>
          <a:blip r:embed="rId7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1"/>
          <p:cNvGraphicFramePr/>
          <p:nvPr/>
        </p:nvGraphicFramePr>
        <p:xfrm>
          <a:off x="6364440" y="1577880"/>
          <a:ext cx="3821040" cy="19656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64440" y="1577880"/>
                    <a:ext cx="38210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14"/>
          <p:cNvSpPr/>
          <p:nvPr/>
        </p:nvSpPr>
        <p:spPr>
          <a:xfrm>
            <a:off x="2300400" y="824040"/>
            <a:ext cx="3930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965240" y="900000"/>
            <a:ext cx="49356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Денежное поощрение обучающихс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(2008 г. - 2011 г.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именная стипендия Сахалинской области – 4 ч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премия по поддержке талантливой молодежи – 8 ч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8321760" y="1830240"/>
            <a:ext cx="2511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чел. – победители федерально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736040" y="3613320"/>
            <a:ext cx="2425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6 чел. – победители, призеры областно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478480" y="4308480"/>
            <a:ext cx="2174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1 чел. – участн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9" descr="102_3752"/>
          <p:cNvPicPr/>
          <p:nvPr/>
        </p:nvPicPr>
        <p:blipFill>
          <a:blip r:embed="rId10"/>
          <a:stretch/>
        </p:blipFill>
        <p:spPr>
          <a:xfrm>
            <a:off x="1998720" y="5000760"/>
            <a:ext cx="3168720" cy="232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11"/>
          <a:stretch/>
        </p:blipFill>
        <p:spPr>
          <a:xfrm>
            <a:off x="7686720" y="4981680"/>
            <a:ext cx="2935080" cy="236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2"/>
          <p:cNvPicPr/>
          <p:nvPr/>
        </p:nvPicPr>
        <p:blipFill>
          <a:blip r:embed="rId12"/>
          <a:stretch/>
        </p:blipFill>
        <p:spPr>
          <a:xfrm>
            <a:off x="5022720" y="4979880"/>
            <a:ext cx="2880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303924738_840c2383b330"/>
          <p:cNvPicPr/>
          <p:nvPr/>
        </p:nvPicPr>
        <p:blipFill>
          <a:blip r:embed="rId4"/>
          <a:stretch/>
        </p:blipFill>
        <p:spPr>
          <a:xfrm>
            <a:off x="4894200" y="4803840"/>
            <a:ext cx="3176640" cy="25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303924738_840c2383b330"/>
          <p:cNvPicPr/>
          <p:nvPr/>
        </p:nvPicPr>
        <p:blipFill>
          <a:blip r:embed="rId5"/>
          <a:stretch/>
        </p:blipFill>
        <p:spPr>
          <a:xfrm>
            <a:off x="7736040" y="4773600"/>
            <a:ext cx="2885760" cy="2606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2070000" y="162000"/>
            <a:ext cx="85518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Федеральные государственные требования к основной общеобразовательной программе дошкольного образования (ФГТ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214720" y="2106720"/>
            <a:ext cx="840708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 «За здоровое поколение»:                                                                         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Грант компании «Эксон Нефтегаз Лимитед» - 225,0 тысяч рублей (Оборудование спортивной площадки и приобретение спортивного оборудования для воспитанников детского са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43080" y="3257640"/>
            <a:ext cx="820908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адиционно провод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- «Мама, папа, я – спортивная семья»                           - Неделя здоровь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- «С рюкзаком за плечами - в поход»                             - «Веселая лыжн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- «Малое безопасное колесо»                                          - «Малые Олимпийские игры»</a:t>
            </a: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686720" y="2898720"/>
            <a:ext cx="165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286000" y="954000"/>
            <a:ext cx="432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143080" y="954000"/>
            <a:ext cx="4176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143080" y="954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ая область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Физическая культура», «Здоровье»   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 Внедрение парциальных программ:                                         «Здравствуй» М.Л. Лазарев (д/с №2 «Ромашка», №7 «Островок»); «Игра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здоровье» Л.Н. Волошина (д/с №11 «Сказ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P1080358"/>
          <p:cNvPicPr/>
          <p:nvPr/>
        </p:nvPicPr>
        <p:blipFill>
          <a:blip r:embed="rId6"/>
          <a:stretch/>
        </p:blipFill>
        <p:spPr>
          <a:xfrm>
            <a:off x="7327800" y="4870440"/>
            <a:ext cx="3294000" cy="2470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SDC10077"/>
          <p:cNvPicPr/>
          <p:nvPr/>
        </p:nvPicPr>
        <p:blipFill>
          <a:blip r:embed="rId7"/>
          <a:stretch/>
        </p:blipFill>
        <p:spPr>
          <a:xfrm>
            <a:off x="1998720" y="4910040"/>
            <a:ext cx="3294000" cy="241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IMG_1588"/>
          <p:cNvPicPr/>
          <p:nvPr/>
        </p:nvPicPr>
        <p:blipFill>
          <a:blip r:embed="rId8"/>
          <a:stretch/>
        </p:blipFill>
        <p:spPr>
          <a:xfrm>
            <a:off x="4735440" y="4915080"/>
            <a:ext cx="30956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303924738_840c2383b330"/>
          <p:cNvPicPr/>
          <p:nvPr/>
        </p:nvPicPr>
        <p:blipFill>
          <a:blip r:embed="rId4"/>
          <a:stretch/>
        </p:blipFill>
        <p:spPr>
          <a:xfrm>
            <a:off x="472608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1303924738_840c2383b330"/>
          <p:cNvPicPr/>
          <p:nvPr/>
        </p:nvPicPr>
        <p:blipFill>
          <a:blip r:embed="rId5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070000" y="73836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инимали участие 4 дошкольных учреждения, дошкольная группа при МБОУ СОШ №1; всего 98 воспитанников, 37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070000" y="1386000"/>
            <a:ext cx="85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214720" y="233280"/>
            <a:ext cx="799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роектная деятельность детей старшего дошкольного возра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DSC00861"/>
          <p:cNvPicPr/>
          <p:nvPr/>
        </p:nvPicPr>
        <p:blipFill>
          <a:blip r:embed="rId6"/>
          <a:stretch/>
        </p:blipFill>
        <p:spPr>
          <a:xfrm>
            <a:off x="7615080" y="4927680"/>
            <a:ext cx="3006720" cy="238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DSC_0916"/>
          <p:cNvPicPr/>
          <p:nvPr/>
        </p:nvPicPr>
        <p:blipFill>
          <a:blip r:embed="rId7"/>
          <a:stretch/>
        </p:blipFill>
        <p:spPr>
          <a:xfrm>
            <a:off x="1998720" y="4915080"/>
            <a:ext cx="3313080" cy="2401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6246720" y="1314360"/>
            <a:ext cx="4608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01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Путешествие в космос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Космические фантази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Удивительный мир космос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Космические дал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Земля – наш дом во Вселенной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589800" y="1457280"/>
            <a:ext cx="403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070000" y="1314360"/>
            <a:ext cx="42483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011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Русская изб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Русские народные музыкальные инструмен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Волшебный мир театр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Хлеб всему голо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Чтобы не было беды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(противопожарная безопасност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«Сердцу милый уголок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(Малая Родин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Лаборатория неживой природы»           (экспериментальная деятельност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- «Капелька» (свойства воды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IMG_3098"/>
          <p:cNvPicPr/>
          <p:nvPr/>
        </p:nvPicPr>
        <p:blipFill>
          <a:blip r:embed="rId8"/>
          <a:stretch/>
        </p:blipFill>
        <p:spPr>
          <a:xfrm>
            <a:off x="4519440" y="4915080"/>
            <a:ext cx="33116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303924738_840c2383b330"/>
          <p:cNvPicPr/>
          <p:nvPr/>
        </p:nvPicPr>
        <p:blipFill>
          <a:blip r:embed="rId3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1303924738_840c2383b330"/>
          <p:cNvPicPr/>
          <p:nvPr/>
        </p:nvPicPr>
        <p:blipFill>
          <a:blip r:embed="rId4"/>
          <a:stretch/>
        </p:blipFill>
        <p:spPr>
          <a:xfrm>
            <a:off x="4726080" y="4809960"/>
            <a:ext cx="3176640" cy="257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1303924738_840c2383b330"/>
          <p:cNvPicPr/>
          <p:nvPr/>
        </p:nvPicPr>
        <p:blipFill>
          <a:blip r:embed="rId5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3"/>
          <p:cNvSpPr/>
          <p:nvPr/>
        </p:nvSpPr>
        <p:spPr>
          <a:xfrm>
            <a:off x="1711440" y="954000"/>
            <a:ext cx="5327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Введение ФГОС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998720" y="1314360"/>
            <a:ext cx="4392720" cy="36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Проведены семина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«Первые результаты введения ФГОС НОО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«Оценка качества начального образования в условиях реализации ФГО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«Место и роль итоговой комплексной работы в системе оценочной деятельности учите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Проведено 9 открытых уроков по введению  ФГОС Н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Районный конкурс научно-методических разработок по реализации ФГОС Н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Обобщен опыт работы 2 учителей первых классов по результатам введения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6805440" y="1457280"/>
            <a:ext cx="38163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Повышение квалификации педагогических кад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12 учителей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4 руководителя О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Приобретено: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учебной литературы на сумму 785,7 тыс. руб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учебного оборудования на сумму 1724,8 тыс. руб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Получен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8 кабинетов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7036560" y="954000"/>
            <a:ext cx="301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Обеспечение введения ФГО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1998720" y="30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еализация Федеральных государственных образовательных станда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6" descr="P1010719"/>
          <p:cNvPicPr/>
          <p:nvPr/>
        </p:nvPicPr>
        <p:blipFill>
          <a:blip r:embed="rId6"/>
          <a:stretch/>
        </p:blipFill>
        <p:spPr>
          <a:xfrm>
            <a:off x="2070000" y="4960800"/>
            <a:ext cx="3154320" cy="2365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7" descr="DSC00265"/>
          <p:cNvPicPr/>
          <p:nvPr/>
        </p:nvPicPr>
        <p:blipFill>
          <a:blip r:embed="rId7"/>
          <a:stretch/>
        </p:blipFill>
        <p:spPr>
          <a:xfrm>
            <a:off x="7470720" y="49737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" descr="P1010900"/>
          <p:cNvPicPr/>
          <p:nvPr/>
        </p:nvPicPr>
        <p:blipFill>
          <a:blip r:embed="rId8"/>
          <a:stretch/>
        </p:blipFill>
        <p:spPr>
          <a:xfrm>
            <a:off x="4807080" y="4994280"/>
            <a:ext cx="2663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erb_gorodskoi_okrug_Noglikskii_Abali_ru_"/>
          <p:cNvPicPr/>
          <p:nvPr/>
        </p:nvPicPr>
        <p:blipFill>
          <a:blip r:embed="rId2"/>
          <a:stretch/>
        </p:blipFill>
        <p:spPr>
          <a:xfrm>
            <a:off x="270000" y="233280"/>
            <a:ext cx="1363680" cy="15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1927080" y="738360"/>
          <a:ext cx="4667400" cy="240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7080" y="738360"/>
                    <a:ext cx="46674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8"/>
          <p:cNvSpPr/>
          <p:nvPr/>
        </p:nvSpPr>
        <p:spPr>
          <a:xfrm>
            <a:off x="3654360" y="306360"/>
            <a:ext cx="554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едагоги райо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230720" y="1746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6 чел. – педагоги 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862360" y="1098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чел. - педагоги Д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1303924738_840c2383b330"/>
          <p:cNvPicPr/>
          <p:nvPr/>
        </p:nvPicPr>
        <p:blipFill>
          <a:blip r:embed="rId5"/>
          <a:stretch/>
        </p:blipFill>
        <p:spPr>
          <a:xfrm>
            <a:off x="1965240" y="4809960"/>
            <a:ext cx="3178440" cy="257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1303924738_840c2383b330"/>
          <p:cNvPicPr/>
          <p:nvPr/>
        </p:nvPicPr>
        <p:blipFill>
          <a:blip r:embed="rId6"/>
          <a:stretch/>
        </p:blipFill>
        <p:spPr>
          <a:xfrm>
            <a:off x="4591080" y="4809960"/>
            <a:ext cx="3178080" cy="257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1303924738_840c2383b330"/>
          <p:cNvPicPr/>
          <p:nvPr/>
        </p:nvPicPr>
        <p:blipFill>
          <a:blip r:embed="rId7"/>
          <a:stretch/>
        </p:blipFill>
        <p:spPr>
          <a:xfrm>
            <a:off x="7443720" y="4809960"/>
            <a:ext cx="3178080" cy="2570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9"/>
          <p:cNvSpPr/>
          <p:nvPr/>
        </p:nvSpPr>
        <p:spPr>
          <a:xfrm>
            <a:off x="1927080" y="1673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 чел. – педагоги Д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319800" y="738360"/>
            <a:ext cx="4302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«Учитель год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2002-2012 г.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Район - 57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Область – 15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Победители областного конкурса – 2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Лауреаты – 3 че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1927080" y="3114720"/>
            <a:ext cx="532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Ведомственные награды имею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Почетная грамота Министерства образования – 17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«Заслуженный учитель Сахалинской области» - 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«Почетный работник общего образования РФ» – 23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«Отличник народного просвещения» – 1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7831080" y="448164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 пенсионн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8263080" y="325764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 в возрасте до 3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50"/>
          <p:cNvGraphicFramePr/>
          <p:nvPr/>
        </p:nvGraphicFramePr>
        <p:xfrm>
          <a:off x="7183440" y="3257640"/>
          <a:ext cx="3151080" cy="1620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63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83440" y="3257640"/>
                    <a:ext cx="315108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53"/>
          <p:cNvSpPr/>
          <p:nvPr/>
        </p:nvSpPr>
        <p:spPr>
          <a:xfrm>
            <a:off x="8839080" y="3546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,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4"/>
          <p:cNvSpPr/>
          <p:nvPr/>
        </p:nvSpPr>
        <p:spPr>
          <a:xfrm>
            <a:off x="8767800" y="3906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4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7759800" y="2898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растной со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IMG_2276"/>
          <p:cNvPicPr/>
          <p:nvPr/>
        </p:nvPicPr>
        <p:blipFill>
          <a:blip r:embed="rId10"/>
          <a:stretch/>
        </p:blipFill>
        <p:spPr>
          <a:xfrm>
            <a:off x="7110360" y="4986360"/>
            <a:ext cx="3511440" cy="234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8" descr="IMG_0148"/>
          <p:cNvPicPr/>
          <p:nvPr/>
        </p:nvPicPr>
        <p:blipFill>
          <a:blip r:embed="rId11"/>
          <a:stretch/>
        </p:blipFill>
        <p:spPr>
          <a:xfrm>
            <a:off x="1998720" y="4986360"/>
            <a:ext cx="3079800" cy="234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9" descr="P1020295"/>
          <p:cNvPicPr/>
          <p:nvPr/>
        </p:nvPicPr>
        <p:blipFill>
          <a:blip r:embed="rId12"/>
          <a:stretch/>
        </p:blipFill>
        <p:spPr>
          <a:xfrm>
            <a:off x="4807080" y="4986360"/>
            <a:ext cx="2520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1965240" cy="739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gerb_gorodskoi_okrug_Noglikskii_Abali_ru_"/>
          <p:cNvPicPr/>
          <p:nvPr/>
        </p:nvPicPr>
        <p:blipFill>
          <a:blip r:embed="rId2"/>
          <a:stretch/>
        </p:blipFill>
        <p:spPr>
          <a:xfrm>
            <a:off x="291960" y="203040"/>
            <a:ext cx="1363680" cy="1576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1303924738_840c2383b330"/>
          <p:cNvPicPr/>
          <p:nvPr/>
        </p:nvPicPr>
        <p:blipFill>
          <a:blip r:embed="rId3"/>
          <a:stretch/>
        </p:blipFill>
        <p:spPr>
          <a:xfrm>
            <a:off x="7445520" y="4809960"/>
            <a:ext cx="3176280" cy="257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303924738_840c2383b330"/>
          <p:cNvPicPr/>
          <p:nvPr/>
        </p:nvPicPr>
        <p:blipFill>
          <a:blip r:embed="rId4"/>
          <a:stretch/>
        </p:blipFill>
        <p:spPr>
          <a:xfrm>
            <a:off x="4807080" y="4809960"/>
            <a:ext cx="3176280" cy="257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1303924738_840c2383b330"/>
          <p:cNvPicPr/>
          <p:nvPr/>
        </p:nvPicPr>
        <p:blipFill>
          <a:blip r:embed="rId5"/>
          <a:stretch/>
        </p:blipFill>
        <p:spPr>
          <a:xfrm>
            <a:off x="1927080" y="4809960"/>
            <a:ext cx="3176640" cy="2570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3583080" y="162000"/>
            <a:ext cx="504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Достижения педагог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4"/>
          <p:cNvGraphicFramePr/>
          <p:nvPr/>
        </p:nvGraphicFramePr>
        <p:xfrm>
          <a:off x="6607080" y="2538360"/>
          <a:ext cx="4014720" cy="22147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07080" y="2538360"/>
                    <a:ext cx="40147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16"/>
          <p:cNvSpPr/>
          <p:nvPr/>
        </p:nvSpPr>
        <p:spPr>
          <a:xfrm>
            <a:off x="7039080" y="4481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 чел. - участ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743440" y="311472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обедители федерально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8174160" y="3041640"/>
            <a:ext cx="24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обедители областно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310360" y="880920"/>
            <a:ext cx="531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емия Президента РФ – 1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емия Губернатора Сахалинской области – 2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Грамота Сахалинской областной Думы – 4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070000" y="131436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бщен опыт работы лучших педагогов              (2002 г. - 2012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927080" y="2322360"/>
          <a:ext cx="3727440" cy="1917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7080" y="2322360"/>
                    <a:ext cx="37274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30"/>
          <p:cNvSpPr/>
          <p:nvPr/>
        </p:nvSpPr>
        <p:spPr>
          <a:xfrm>
            <a:off x="6102360" y="2394000"/>
            <a:ext cx="39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ный отбор лучших учителей   в рамках ПНП «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2719440" y="397836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чел. – район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1998720" y="2249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чел. – областно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3" descr="IMG_0059"/>
          <p:cNvPicPr/>
          <p:nvPr/>
        </p:nvPicPr>
        <p:blipFill>
          <a:blip r:embed="rId10"/>
          <a:stretch/>
        </p:blipFill>
        <p:spPr>
          <a:xfrm>
            <a:off x="1998720" y="4965840"/>
            <a:ext cx="2952720" cy="236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" descr="IMG_0128"/>
          <p:cNvPicPr/>
          <p:nvPr/>
        </p:nvPicPr>
        <p:blipFill>
          <a:blip r:embed="rId11"/>
          <a:stretch/>
        </p:blipFill>
        <p:spPr>
          <a:xfrm>
            <a:off x="7470720" y="4986360"/>
            <a:ext cx="3151080" cy="2346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5" descr="IMG_4298"/>
          <p:cNvPicPr/>
          <p:nvPr/>
        </p:nvPicPr>
        <p:blipFill>
          <a:blip r:embed="rId12"/>
          <a:stretch/>
        </p:blipFill>
        <p:spPr>
          <a:xfrm>
            <a:off x="4446720" y="4986360"/>
            <a:ext cx="3394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7T23:11:14Z</dcterms:created>
  <dc:creator>Бухгалтерия</dc:creator>
  <dc:description/>
  <dc:language>en-US</dc:language>
  <cp:lastModifiedBy>vasilyev</cp:lastModifiedBy>
  <dcterms:modified xsi:type="dcterms:W3CDTF">2012-08-14T03:21:02Z</dcterms:modified>
  <cp:revision>33</cp:revision>
  <dc:subject/>
  <dc:title>Слайд 1</dc:title>
</cp:coreProperties>
</file>